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1F4-2E92-4CC5-A8C8-5DE69664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991-3634-40BE-8D82-2F3A2DAB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ACA-73EA-4434-B7A7-E933F75E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339-309E-48A5-92FF-A9D05CEA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D4C13-8B62-476A-81E7-AC1AB3BF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3D0E0-1FD6-493D-B64D-6F059D45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27832-AE60-4D33-9407-A9458687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78A0D-D121-413A-A440-1C705251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2BEDE-D653-471E-A8B7-542F0952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B8AB2-2964-45FF-8894-282408CE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DC6AE-F238-4A2F-96C0-04242408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2B6-E6DF-46FF-801E-0904C489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75A22-ECC1-4BDE-8F90-FCC0150B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C42A7-8DF5-4B13-A4F8-A6D5934F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382BB-8175-460F-837C-10981813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8BDE3-11EB-4B81-A065-AAD938D5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BA1B8-899B-4C85-A7CE-324491BB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02E-ADA7-489B-9041-D674ECD2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E5BE-CD77-4C3F-A5BD-D1A9BCB4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B38-1549-4FA8-885D-8A0A1C58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172-85D4-40D7-8719-A151BE4C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B0D-B7C5-4005-A158-70E51A99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94D4-6AEE-4794-920E-2A61DABD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9B8-77BE-4301-AB84-A15DCF75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99B0-1757-429F-A8C5-E3E3F9C1E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1345-BB52-4F49-B4F5-C47CB237E8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har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Kevin Boy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743200" y="4648320"/>
            <a:ext cx="39146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 you like sharks? Read this report and you will se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43200" y="2233440"/>
            <a:ext cx="3657600" cy="2389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743200" y="2209680"/>
            <a:ext cx="36576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want to know how many babies they can have at a time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have 100 babies at a ti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43200" y="33526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can grow to 45 feet long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live world w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00400" y="3505320"/>
            <a:ext cx="3657600" cy="24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 you want to know what they ea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eat fish, meat, even human fle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038480" y="5181480"/>
            <a:ext cx="966960" cy="67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590920" y="3733920"/>
            <a:ext cx="1819080" cy="1444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105520" y="4800600"/>
            <a:ext cx="1801800" cy="1041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133720" y="5105520"/>
            <a:ext cx="18176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e? Sharks aren’t so bad. They aren’t so bad. These are good animal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828800" y="1981080"/>
            <a:ext cx="4583160" cy="3205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45831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20:17:01Z</dcterms:modified>
  <cp:revision>3</cp:revision>
  <dc:subject/>
  <dc:title>Animal Name</dc:title>
</cp:coreProperties>
</file>